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DED-77AC-4AA7-AFB4-889F2E59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A17-FD73-47FF-957D-9EEA2D9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056-8A8B-4069-9C27-AE6D827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E29-0489-497D-9EDE-9965D95C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C5B-4F35-4E3B-915C-4E45786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1E2-88E3-4514-A6DC-064AC390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B64-A0E2-4FE3-800A-D2912EF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846-78A9-4078-ADD7-8142D75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57B-309C-4518-9491-11925803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799-7280-4813-9BA7-E64A66D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616-E068-4AD1-AFB4-38309FD6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ADE-229B-43C4-8E7F-FB8EA200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5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YAxisTick3"/>
            <p:cNvSpPr/>
            <p:nvPr/>
          </p:nvSpPr>
          <p:spPr>
            <a:xfrm>
              <a:off x="888840" y="190476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55"/>
          <p:cNvSpPr/>
          <p:nvPr/>
        </p:nvSpPr>
        <p:spPr>
          <a:xfrm>
            <a:off x="-68400" y="4041720"/>
            <a:ext cx="1743120" cy="190980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2"/>
          <p:cNvSpPr/>
          <p:nvPr/>
        </p:nvSpPr>
        <p:spPr>
          <a:xfrm>
            <a:off x="520560" y="1095480"/>
            <a:ext cx="190980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1"/>
          <p:cNvSpPr/>
          <p:nvPr/>
        </p:nvSpPr>
        <p:spPr>
          <a:xfrm>
            <a:off x="1879560" y="282600"/>
            <a:ext cx="190836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520560" y="5729400"/>
            <a:ext cx="1909800" cy="119376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9"/>
          <p:cNvSpPr/>
          <p:nvPr/>
        </p:nvSpPr>
        <p:spPr>
          <a:xfrm>
            <a:off x="-44280" y="-58680"/>
            <a:ext cx="1447560" cy="1674720"/>
          </a:xfrm>
          <a:prstGeom prst="pi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0"/>
          <p:cNvSpPr/>
          <p:nvPr/>
        </p:nvSpPr>
        <p:spPr>
          <a:xfrm>
            <a:off x="923760" y="-160200"/>
            <a:ext cx="1909800" cy="1908000"/>
          </a:xfrm>
          <a:prstGeom prst="ellipse">
            <a:avLst/>
          </a:prstGeom>
          <a:solidFill>
            <a:srgbClr val="fdc51b">
              <a:alpha val="2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1"/>
          <p:cNvSpPr/>
          <p:nvPr/>
        </p:nvSpPr>
        <p:spPr>
          <a:xfrm>
            <a:off x="0" y="660240"/>
            <a:ext cx="1909800" cy="1909800"/>
          </a:xfrm>
          <a:prstGeom prst="ellips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32"/>
          <p:cNvSpPr/>
          <p:nvPr/>
        </p:nvSpPr>
        <p:spPr>
          <a:xfrm>
            <a:off x="7497720" y="-58680"/>
            <a:ext cx="1693800" cy="1674720"/>
          </a:xfrm>
          <a:prstGeom prst="pie">
            <a:avLst/>
          </a:prstGeom>
          <a:solidFill>
            <a:srgbClr val="ffe181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3"/>
          <p:cNvSpPr/>
          <p:nvPr/>
        </p:nvSpPr>
        <p:spPr>
          <a:xfrm>
            <a:off x="6118200" y="-58680"/>
            <a:ext cx="1908360" cy="170316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4"/>
          <p:cNvSpPr/>
          <p:nvPr/>
        </p:nvSpPr>
        <p:spPr>
          <a:xfrm>
            <a:off x="7494480" y="1095480"/>
            <a:ext cx="1697040" cy="1909800"/>
          </a:xfrm>
          <a:prstGeom prst="pi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5"/>
          <p:cNvSpPr/>
          <p:nvPr/>
        </p:nvSpPr>
        <p:spPr>
          <a:xfrm>
            <a:off x="8056440" y="5140440"/>
            <a:ext cx="1138320" cy="175896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6"/>
          <p:cNvSpPr/>
          <p:nvPr/>
        </p:nvSpPr>
        <p:spPr>
          <a:xfrm>
            <a:off x="6661080" y="4362480"/>
            <a:ext cx="1909800" cy="1909800"/>
          </a:xfrm>
          <a:prstGeom prst="ellipse">
            <a:avLst/>
          </a:prstGeom>
          <a:solidFill>
            <a:srgbClr val="fdc51b">
              <a:alpha val="5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7"/>
          <p:cNvSpPr/>
          <p:nvPr/>
        </p:nvSpPr>
        <p:spPr>
          <a:xfrm>
            <a:off x="-68400" y="4948200"/>
            <a:ext cx="1352520" cy="190980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8"/>
          <p:cNvSpPr/>
          <p:nvPr/>
        </p:nvSpPr>
        <p:spPr>
          <a:xfrm>
            <a:off x="708120" y="4791240"/>
            <a:ext cx="1909800" cy="1908000"/>
          </a:xfrm>
          <a:prstGeom prst="ellips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9"/>
          <p:cNvSpPr/>
          <p:nvPr/>
        </p:nvSpPr>
        <p:spPr>
          <a:xfrm>
            <a:off x="6118200" y="784080"/>
            <a:ext cx="1908360" cy="1909800"/>
          </a:xfrm>
          <a:prstGeom prst="ellips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0"/>
          <p:cNvSpPr/>
          <p:nvPr/>
        </p:nvSpPr>
        <p:spPr>
          <a:xfrm>
            <a:off x="6459480" y="5140440"/>
            <a:ext cx="190980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7"/>
          <p:cNvSpPr/>
          <p:nvPr/>
        </p:nvSpPr>
        <p:spPr>
          <a:xfrm>
            <a:off x="8397720" y="598320"/>
            <a:ext cx="793800" cy="125280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8"/>
          <p:cNvSpPr/>
          <p:nvPr/>
        </p:nvSpPr>
        <p:spPr>
          <a:xfrm>
            <a:off x="6350040" y="206280"/>
            <a:ext cx="1041480" cy="10414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9"/>
          <p:cNvSpPr/>
          <p:nvPr/>
        </p:nvSpPr>
        <p:spPr>
          <a:xfrm>
            <a:off x="6872400" y="1450800"/>
            <a:ext cx="1217520" cy="12178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0"/>
          <p:cNvSpPr/>
          <p:nvPr/>
        </p:nvSpPr>
        <p:spPr>
          <a:xfrm>
            <a:off x="7219800" y="2049480"/>
            <a:ext cx="1041480" cy="10414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1"/>
          <p:cNvSpPr/>
          <p:nvPr/>
        </p:nvSpPr>
        <p:spPr>
          <a:xfrm>
            <a:off x="7750080" y="2662200"/>
            <a:ext cx="720720" cy="72072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2"/>
          <p:cNvSpPr/>
          <p:nvPr/>
        </p:nvSpPr>
        <p:spPr>
          <a:xfrm>
            <a:off x="685800" y="-98280"/>
            <a:ext cx="1193760" cy="69516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3"/>
          <p:cNvSpPr/>
          <p:nvPr/>
        </p:nvSpPr>
        <p:spPr>
          <a:xfrm>
            <a:off x="1501920" y="-98280"/>
            <a:ext cx="1030320" cy="45720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4"/>
          <p:cNvSpPr/>
          <p:nvPr/>
        </p:nvSpPr>
        <p:spPr>
          <a:xfrm>
            <a:off x="-68400" y="-98280"/>
            <a:ext cx="588960" cy="60948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25"/>
          <p:cNvSpPr/>
          <p:nvPr/>
        </p:nvSpPr>
        <p:spPr>
          <a:xfrm>
            <a:off x="277920" y="4321080"/>
            <a:ext cx="1396800" cy="1397160"/>
          </a:xfrm>
          <a:prstGeom prst="ellips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6"/>
          <p:cNvSpPr/>
          <p:nvPr/>
        </p:nvSpPr>
        <p:spPr>
          <a:xfrm>
            <a:off x="5791320" y="6489720"/>
            <a:ext cx="1116000" cy="444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7"/>
          <p:cNvSpPr/>
          <p:nvPr/>
        </p:nvSpPr>
        <p:spPr>
          <a:xfrm>
            <a:off x="6127920" y="6408720"/>
            <a:ext cx="1236600" cy="525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8"/>
          <p:cNvSpPr/>
          <p:nvPr/>
        </p:nvSpPr>
        <p:spPr>
          <a:xfrm>
            <a:off x="7577280" y="6408720"/>
            <a:ext cx="1211040" cy="525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-68400" y="6172200"/>
            <a:ext cx="776520" cy="75096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-68400" y="5159520"/>
            <a:ext cx="561960" cy="89676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-23760" y="482760"/>
            <a:ext cx="595440" cy="9046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474840" y="836640"/>
            <a:ext cx="909360" cy="9111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318960" y="1452600"/>
            <a:ext cx="773280" cy="772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155520" y="1919160"/>
            <a:ext cx="520920" cy="522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7302600" y="-58680"/>
            <a:ext cx="911160" cy="74772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8718480" y="-58680"/>
            <a:ext cx="473040" cy="6112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8915400" y="749160"/>
            <a:ext cx="276120" cy="9082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7591320" y="728640"/>
            <a:ext cx="968400" cy="9698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7629480" y="5611680"/>
            <a:ext cx="739800" cy="738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1"/>
          <p:cNvSpPr/>
          <p:nvPr/>
        </p:nvSpPr>
        <p:spPr>
          <a:xfrm>
            <a:off x="6972480" y="5241960"/>
            <a:ext cx="739440" cy="739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7494480" y="4927680"/>
            <a:ext cx="738360" cy="739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229600" y="5667480"/>
            <a:ext cx="604800" cy="604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078760" y="4097160"/>
            <a:ext cx="554040" cy="5540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412120" y="5057640"/>
            <a:ext cx="554040" cy="5540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688240" y="4791240"/>
            <a:ext cx="503280" cy="55224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4572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9144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1371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1371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1371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DCB-1008-470E-A4EA-98315F6F3BCC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082F-5312-4E49-9835-7953BD03AA35}" type="slidenum"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4"/>
          <p:cNvSpPr/>
          <p:nvPr/>
        </p:nvSpPr>
        <p:spPr>
          <a:xfrm>
            <a:off x="1582560" y="5454720"/>
            <a:ext cx="1909800" cy="146844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6"/>
          <p:cNvSpPr/>
          <p:nvPr/>
        </p:nvSpPr>
        <p:spPr>
          <a:xfrm>
            <a:off x="8570880" y="3382920"/>
            <a:ext cx="306360" cy="306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7"/>
          <p:cNvSpPr/>
          <p:nvPr/>
        </p:nvSpPr>
        <p:spPr>
          <a:xfrm>
            <a:off x="8397720" y="3537000"/>
            <a:ext cx="306720" cy="304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8"/>
          <p:cNvSpPr/>
          <p:nvPr/>
        </p:nvSpPr>
        <p:spPr>
          <a:xfrm>
            <a:off x="8609040" y="3689280"/>
            <a:ext cx="306360" cy="304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155520" y="2698920"/>
            <a:ext cx="466920" cy="4665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270000" y="3382920"/>
            <a:ext cx="352440" cy="3510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-84240" y="2581200"/>
            <a:ext cx="1359000" cy="190980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3"/>
          <p:cNvSpPr/>
          <p:nvPr/>
        </p:nvSpPr>
        <p:spPr>
          <a:xfrm>
            <a:off x="6172200" y="2395440"/>
            <a:ext cx="1219320" cy="12178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historic Vocabulary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edd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tlatl (ott – lattle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ling like tool that threw darts accurately for far distan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690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Midden Heap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 or deposit containing shells, animal bones, and other refuse (garbage) that indicates the site of a human settle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9307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Burial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 built over a grave or multiple grave sit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571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eremonial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aised mound where ceremonial / religious services are hel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209680" y="4816440"/>
            <a:ext cx="4381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B.C.E. / B.C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efore the Common Era / Before Christ.  These dates run backward from 0 on a timelin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.E. / A.D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Common Era / Anno Domini.  These dates run forward from 0 on a timelin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Effigy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s of earth and stone in the shapes of birds, bear, deer, bison, lynx, turtle, panther, or wat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31179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Prehistory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09800" y="1806480"/>
            <a:ext cx="7124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ime before history was written dow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rchaeologis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entist who studies artifacts to learn about the lives of early peop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48200" y="380880"/>
            <a:ext cx="3295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rtifac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tems that are man-made such as pottery, jewelry, weapons, and tool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895480" y="4495680"/>
            <a:ext cx="3417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Ecofac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vidence that hasn’t been changed or touched by humans, such as seeds, animal bones, fossil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416560" y="228600"/>
            <a:ext cx="29368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nthropologis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entist who studies artifacts, ecofacts, and oral histories to learn about a culture or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52280" y="506736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ultur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ehaviors and beliefs characteristic to a particular social, ethnic, or age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114800" y="446040"/>
            <a:ext cx="46674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Horticultur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science of growing / farming plan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0876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Tribe or Cla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 group of people who share a common ancestry, name, and way of liv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410080" y="76320"/>
            <a:ext cx="2640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00:04:00Z</dcterms:created>
  <dc:creator>Jennifer Crawford</dc:creator>
  <dc:description/>
  <dc:language>en-US</dc:language>
  <cp:lastModifiedBy>Catherine Hackney</cp:lastModifiedBy>
  <dcterms:modified xsi:type="dcterms:W3CDTF">2016-09-05T18:39:41Z</dcterms:modified>
  <cp:revision>9</cp:revision>
  <dc:subject/>
  <dc:title>Prehistoric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